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3FD-30F5-4BF7-AF15-9EE9EE039A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А. Алимов, Ю.М. Колягин,  М.В. Ткачева и др. Алгебра и начала математического анализа. 10-11 классы: учебник для общеобразовательных учреждений: базовый уровень. – 18-е изд. – М.: Просвещение, 2012. – 46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2195-7B15-4747-8A1D-0CEE2B44D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11. - № 1053; 12. - № 1054; 13. - № 1056 – дополнительны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1F55-2D24-4119-A7EF-5F19D941F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74C-4A10-4EA9-B96E-45E03931F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86A-37DE-4AA3-8B5D-3080964BC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ерссылки:  1.- на слайд № 3,  2.- на слайд № 13,   3.- на слайд № 18,  4.- на слайд № 24,  5,- на слайд № 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C8E0-4066-42B6-B146-26456C06A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23CC-2FA7-4BFE-AFA5-BBB91FAC0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учебнике - № 1043;  № 2 в учебнике - № 1044. Знак вопроса в квадрате – гиперссылка на решение упражнения №1. Букв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уге и квадрате – гиперссылка на информацию о подобном решении задачи № 3 (о лилия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C6F-49E3-4971-873A-2813854D7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 учебнике - № 1045;  № 4 в учебнике - № 1046.  С.Р.(на полях) – 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089-7ABD-4CC5-9EB2-9AE55D867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 учебнике - № 10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B443-3CBC-4CF2-8E76-B936473A6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в учебнике - № 1048.  «Дополнительно» – гиперссылка к дополнительным задачам к уроку. Треугольник в квадрате на полях – гиперссылка на новую тему:  «Перестановки».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66E-EA81-44EE-ADD6-AACEF451D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ике:  7. - № 1049;  8. – № 1050;  9. - № 1052 – дополнительные задачи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107-7BCA-4A55-AA8B-F4F91032D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823-AD57-4A8F-AB31-DD652B81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D19-8E84-4EC2-A8EC-D8BB3B3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87B-729B-4581-AAA1-9AE2CEC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744-554E-49E3-82BE-11C94D98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591D-C693-4EE4-AC8C-6C302D75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0874-C710-4BCB-B8DA-E8B7F64A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0F7-2AAD-4248-B626-AE82994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D288-549E-493C-96D6-84E27C9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A98-59F6-424F-88B3-C94D90E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B73-18B3-45C3-9098-AE5E511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A89F-28E0-4C59-ACAB-4037EE8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0EA-EBA4-4EF4-901B-34BBBE9F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4C0B-2C77-4A8D-B7DF-5EE499E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F34-C425-4CB2-A147-1B22419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267-CFB7-47E4-9416-B7C0F8CC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9B63-E0E3-4255-BA87-F9F74380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925-7ADD-4E50-9BF6-B83ECE07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8838-2304-4B3F-BFC3-C004CF4F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B0C1-1BAC-4A00-BBBF-49B298E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6325-0424-46DB-8C3F-D5CF3D2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B69E-AD29-4104-88CA-31B71BA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3E54-5AFE-4163-83CE-851B8ED0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D9C-4B8B-4DED-8FE8-292DC87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9BB1-F623-4F69-92D8-550E560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ACBA-E061-4166-9531-AB017A24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ABC0-33C2-41CE-882D-27D9C6A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3902-FB25-40CB-BCC3-9111729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1257-E617-4443-AC8C-F047140C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EB52-983D-41D1-A40E-8ED3176C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4FB2-1816-4B28-A3D2-52CEE688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BE56-238F-4818-9440-78FF774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0B09-2D31-4B3C-8B8B-2F4120B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C591-4681-44F1-9552-8421568E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B23-6B6C-44F8-9397-36E21D1B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CF11-CDAA-44FF-AAE6-083AA30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5AD95-CB44-448F-8AA0-311709B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D6FF-6E00-4861-8210-8D682C4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BDC7-8434-42FF-BBC0-0FC0A80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67DF-4426-4ACC-BC9A-B9B62E3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8409-1439-4619-AC7C-05D012C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99FF-F10F-4CFA-A7C8-5DF3EA4A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04A0-4062-4A2E-8F27-BD9E5757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2924-C42B-4A5B-B904-FE6CCCF9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A6E-C142-474C-8FEB-986C547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9ED-4F52-4D56-B346-9A69193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B35-1586-43E8-872D-BB9DB62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B48-D9DE-47E5-8DC9-941146A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1A2-03E1-453D-B734-A15F817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4D0D-6CBD-4796-99D8-23035A7CCC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7AD-652A-4FFD-8A67-9F8AE9E4985D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EA6-A34C-47B2-8EFE-1E6A3F6FE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27DC-D402-465B-8AF1-51989951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86;&#1084;&#1073;&#1080;&#1085;&#1072;&#1090;&#1086;&#1088;&#1080;&#1082;&#1072;.ppt#3. &#1057;&#1083;&#1072;&#1081;&#1076; 3" TargetMode="Externa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4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WordArt 2" descr=""/>
          <p:cNvPicPr/>
          <p:nvPr/>
        </p:nvPicPr>
        <p:blipFill>
          <a:blip r:embed="rId1"/>
          <a:stretch/>
        </p:blipFill>
        <p:spPr>
          <a:xfrm>
            <a:off x="60480" y="433440"/>
            <a:ext cx="9096120" cy="6405480"/>
          </a:xfrm>
          <a:prstGeom prst="rect">
            <a:avLst/>
          </a:prstGeom>
          <a:ln w="0">
            <a:noFill/>
          </a:ln>
        </p:spPr>
      </p:pic>
      <p:sp>
        <p:nvSpPr>
          <p:cNvPr id="172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30"/>
          <p:cNvCxnSpPr/>
          <p:nvPr/>
        </p:nvCxnSpPr>
        <p:spPr>
          <a:xfrm>
            <a:off x="3924000" y="234936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2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4"/>
          <p:cNvSpPr/>
          <p:nvPr/>
        </p:nvSpPr>
        <p:spPr>
          <a:xfrm>
            <a:off x="539640" y="59500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олодникова Алевтина Александровна – преподаватель 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Б ПОУ «Экономический колледж» г.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-7920" y="260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680" y="2781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4680" y="501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84360" y="26028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18 учащихся. Из их числа нужно выбрать физорга, культорга и казначея. Сколькими способами это можно сделать, если один ученик может занимать не более одной долж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684360" y="2781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20 учащихся. Необходимо назначить по одному дежурному в столовую, вестибюль и спортивный зал. Сколькими способами это можно сдел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55640" y="5013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уществует пятизначных чисел, в которых все цифры, стоящие на нечетных местах, различ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434120" y="1916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8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434120" y="4005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8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4435560" y="5805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4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274320" y="476280"/>
            <a:ext cx="538992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упражнения №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"/>
          <p:cNvSpPr/>
          <p:nvPr/>
        </p:nvSpPr>
        <p:spPr>
          <a:xfrm>
            <a:off x="241128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3"/>
          <p:cNvSpPr/>
          <p:nvPr/>
        </p:nvSpPr>
        <p:spPr>
          <a:xfrm>
            <a:off x="3780000" y="170028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4"/>
          <p:cNvSpPr/>
          <p:nvPr/>
        </p:nvSpPr>
        <p:spPr>
          <a:xfrm>
            <a:off x="241128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"/>
          <p:cNvSpPr/>
          <p:nvPr/>
        </p:nvSpPr>
        <p:spPr>
          <a:xfrm>
            <a:off x="3780000" y="3357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6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7"/>
          <p:cNvSpPr/>
          <p:nvPr/>
        </p:nvSpPr>
        <p:spPr>
          <a:xfrm>
            <a:off x="3780000" y="4941720"/>
            <a:ext cx="914400" cy="914400"/>
          </a:xfrm>
          <a:prstGeom prst="ellipse">
            <a:avLst/>
          </a:prstGeom>
          <a:solidFill>
            <a:srgbClr val="eeece1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468360" y="1844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74840" y="3500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474840" y="5084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,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342288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3"/>
          <p:cNvSpPr/>
          <p:nvPr/>
        </p:nvSpPr>
        <p:spPr>
          <a:xfrm>
            <a:off x="342288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4"/>
          <p:cNvSpPr/>
          <p:nvPr/>
        </p:nvSpPr>
        <p:spPr>
          <a:xfrm>
            <a:off x="342288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4936680" y="170028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6"/>
          <p:cNvSpPr/>
          <p:nvPr/>
        </p:nvSpPr>
        <p:spPr>
          <a:xfrm>
            <a:off x="5007960" y="3357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5007960" y="494172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5655600" y="17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5585760" y="3429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5655600" y="49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возврат 22">
            <a:hlinkClick r:id="rId1" action="ppaction://hlinksldjump"/>
          </p:cNvPr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8"/>
          <p:cNvSpPr/>
          <p:nvPr/>
        </p:nvSpPr>
        <p:spPr>
          <a:xfrm>
            <a:off x="4572000" y="342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50920" y="476280"/>
            <a:ext cx="165564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2"/>
          <p:cNvSpPr/>
          <p:nvPr/>
        </p:nvSpPr>
        <p:spPr>
          <a:xfrm>
            <a:off x="1908000" y="40464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256680" y="162864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4"/>
          <p:cNvSpPr/>
          <p:nvPr/>
        </p:nvSpPr>
        <p:spPr>
          <a:xfrm>
            <a:off x="2340000" y="1628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258480" y="6021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TextBox 10" descr=""/>
          <p:cNvPicPr/>
          <p:nvPr/>
        </p:nvPicPr>
        <p:blipFill>
          <a:blip r:embed="rId1"/>
          <a:stretch/>
        </p:blipFill>
        <p:spPr>
          <a:xfrm>
            <a:off x="171360" y="3133800"/>
            <a:ext cx="1584360" cy="139536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17"/>
          <p:cNvGrpSpPr/>
          <p:nvPr/>
        </p:nvGrpSpPr>
        <p:grpSpPr>
          <a:xfrm>
            <a:off x="979560" y="2637000"/>
            <a:ext cx="4929480" cy="544320"/>
            <a:chOff x="979560" y="2637000"/>
            <a:chExt cx="4929480" cy="544320"/>
          </a:xfrm>
        </p:grpSpPr>
        <p:sp>
          <p:nvSpPr>
            <p:cNvPr id="335" name="TextBox 9"/>
            <p:cNvSpPr/>
            <p:nvPr/>
          </p:nvSpPr>
          <p:spPr>
            <a:xfrm>
              <a:off x="5080680" y="2637000"/>
              <a:ext cx="8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Группа 16"/>
            <p:cNvGrpSpPr/>
            <p:nvPr/>
          </p:nvGrpSpPr>
          <p:grpSpPr>
            <a:xfrm>
              <a:off x="979560" y="2637360"/>
              <a:ext cx="4168800" cy="543960"/>
              <a:chOff x="979560" y="2637360"/>
              <a:chExt cx="4168800" cy="543960"/>
            </a:xfrm>
          </p:grpSpPr>
          <p:pic>
            <p:nvPicPr>
              <p:cNvPr id="337" name="Picture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8000" y="2710080"/>
                <a:ext cx="36036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Прямоугольник 11"/>
              <p:cNvSpPr/>
              <p:nvPr/>
            </p:nvSpPr>
            <p:spPr>
              <a:xfrm>
                <a:off x="2208960" y="2637360"/>
                <a:ext cx="265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• 2 • 2 • 2 • 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оугольник 12"/>
              <p:cNvSpPr/>
              <p:nvPr/>
            </p:nvSpPr>
            <p:spPr>
              <a:xfrm>
                <a:off x="979560" y="2637720"/>
                <a:ext cx="13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df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Рисунок 13" descr=""/>
          <p:cNvPicPr/>
          <p:nvPr/>
        </p:nvPicPr>
        <p:blipFill>
          <a:blip r:embed="rId3"/>
          <a:stretch/>
        </p:blipFill>
        <p:spPr>
          <a:xfrm rot="21022200">
            <a:off x="5964120" y="2232000"/>
            <a:ext cx="2232000" cy="2195640"/>
          </a:xfrm>
          <a:prstGeom prst="rect">
            <a:avLst/>
          </a:prstGeom>
          <a:ln w="0">
            <a:noFill/>
          </a:ln>
        </p:spPr>
      </p:pic>
      <p:sp>
        <p:nvSpPr>
          <p:cNvPr id="341" name="Управляющая кнопка: возврат 18"/>
          <p:cNvSpPr/>
          <p:nvPr/>
        </p:nvSpPr>
        <p:spPr>
          <a:xfrm>
            <a:off x="842328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19" descr=""/>
          <p:cNvPicPr/>
          <p:nvPr/>
        </p:nvPicPr>
        <p:blipFill>
          <a:blip r:embed="rId4"/>
          <a:stretch/>
        </p:blipFill>
        <p:spPr>
          <a:xfrm rot="20797800">
            <a:off x="2021040" y="3309840"/>
            <a:ext cx="2304720" cy="18716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I:\Documents and Settings\Kseniya\Рабочий стол\Новая папка\242711_(www.GdeFon.ru).jpg"/>
          <p:cNvPicPr/>
          <p:nvPr/>
        </p:nvPicPr>
        <p:blipFill>
          <a:blip r:embed="rId5"/>
          <a:stretch/>
        </p:blipFill>
        <p:spPr>
          <a:xfrm rot="20158800">
            <a:off x="4618080" y="4754160"/>
            <a:ext cx="18352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WordArt 2" descr=""/>
          <p:cNvPicPr/>
          <p:nvPr/>
        </p:nvPicPr>
        <p:blipFill>
          <a:blip r:embed="rId1"/>
          <a:stretch/>
        </p:blipFill>
        <p:spPr>
          <a:xfrm>
            <a:off x="115920" y="109440"/>
            <a:ext cx="9388440" cy="7193160"/>
          </a:xfrm>
          <a:prstGeom prst="rect">
            <a:avLst/>
          </a:prstGeom>
          <a:ln w="0">
            <a:noFill/>
          </a:ln>
        </p:spPr>
      </p:pic>
      <p:sp>
        <p:nvSpPr>
          <p:cNvPr id="345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5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2"/>
          <p:cNvSpPr/>
          <p:nvPr/>
        </p:nvSpPr>
        <p:spPr>
          <a:xfrm>
            <a:off x="250920" y="26028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Перестановками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з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называются соединения (комбинации), которые состоят из одних и тех же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элементов и отличаются одно от другого тольк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7"/>
          <p:cNvGrpSpPr/>
          <p:nvPr/>
        </p:nvGrpSpPr>
        <p:grpSpPr>
          <a:xfrm>
            <a:off x="8604360" y="549360"/>
            <a:ext cx="288720" cy="2232000"/>
            <a:chOff x="8604360" y="549360"/>
            <a:chExt cx="288720" cy="2232000"/>
          </a:xfrm>
        </p:grpSpPr>
        <p:sp>
          <p:nvSpPr>
            <p:cNvPr id="358" name="Овал 5"/>
            <p:cNvSpPr/>
            <p:nvPr/>
          </p:nvSpPr>
          <p:spPr>
            <a:xfrm>
              <a:off x="8604360" y="54936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Овал 6"/>
            <p:cNvSpPr/>
            <p:nvPr/>
          </p:nvSpPr>
          <p:spPr>
            <a:xfrm>
              <a:off x="8604360" y="249408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Прямая соединительная линия 10"/>
          <p:cNvSpPr/>
          <p:nvPr/>
        </p:nvSpPr>
        <p:spPr>
          <a:xfrm>
            <a:off x="324000" y="765000"/>
            <a:ext cx="338436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2"/>
          <p:cNvSpPr/>
          <p:nvPr/>
        </p:nvSpPr>
        <p:spPr>
          <a:xfrm>
            <a:off x="179280" y="3645000"/>
            <a:ext cx="15130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619280" y="350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поставить рядом на полке 4 различные кни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Группа 26"/>
          <p:cNvGrpSpPr/>
          <p:nvPr/>
        </p:nvGrpSpPr>
        <p:grpSpPr>
          <a:xfrm>
            <a:off x="185040" y="4797360"/>
            <a:ext cx="7621200" cy="792360"/>
            <a:chOff x="185040" y="4797360"/>
            <a:chExt cx="7621200" cy="792360"/>
          </a:xfrm>
        </p:grpSpPr>
        <p:sp>
          <p:nvSpPr>
            <p:cNvPr id="364" name="TextBox 14"/>
            <p:cNvSpPr/>
            <p:nvPr/>
          </p:nvSpPr>
          <p:spPr>
            <a:xfrm>
              <a:off x="185040" y="494172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Овал 15"/>
            <p:cNvSpPr/>
            <p:nvPr/>
          </p:nvSpPr>
          <p:spPr>
            <a:xfrm>
              <a:off x="1834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Овал 16"/>
            <p:cNvSpPr/>
            <p:nvPr/>
          </p:nvSpPr>
          <p:spPr>
            <a:xfrm>
              <a:off x="3058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Овал 17"/>
            <p:cNvSpPr/>
            <p:nvPr/>
          </p:nvSpPr>
          <p:spPr>
            <a:xfrm>
              <a:off x="42829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Овал 18"/>
            <p:cNvSpPr/>
            <p:nvPr/>
          </p:nvSpPr>
          <p:spPr>
            <a:xfrm>
              <a:off x="5508720" y="4797360"/>
              <a:ext cx="792000" cy="792360"/>
            </a:xfrm>
            <a:prstGeom prst="ellipse">
              <a:avLst/>
            </a:prstGeom>
            <a:noFill/>
            <a:ln cap="rnd"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198216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27852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4502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5726880" y="486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24"/>
            <p:cNvSpPr/>
            <p:nvPr/>
          </p:nvSpPr>
          <p:spPr>
            <a:xfrm>
              <a:off x="6661800" y="486936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25"/>
            <p:cNvSpPr/>
            <p:nvPr/>
          </p:nvSpPr>
          <p:spPr>
            <a:xfrm>
              <a:off x="7168320" y="4869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7"/>
          <p:cNvSpPr/>
          <p:nvPr/>
        </p:nvSpPr>
        <p:spPr>
          <a:xfrm>
            <a:off x="3424680" y="6093000"/>
            <a:ext cx="1119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8"/>
          <p:cNvSpPr/>
          <p:nvPr/>
        </p:nvSpPr>
        <p:spPr>
          <a:xfrm>
            <a:off x="4863960" y="595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2"/>
          <p:cNvSpPr/>
          <p:nvPr/>
        </p:nvSpPr>
        <p:spPr>
          <a:xfrm>
            <a:off x="2630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3"/>
          <p:cNvSpPr/>
          <p:nvPr/>
        </p:nvSpPr>
        <p:spPr>
          <a:xfrm>
            <a:off x="385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4"/>
          <p:cNvSpPr/>
          <p:nvPr/>
        </p:nvSpPr>
        <p:spPr>
          <a:xfrm>
            <a:off x="50792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2355840" y="18900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сло перестано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424720" y="1052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208800" y="2133720"/>
            <a:ext cx="82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ведение первых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туральных чисел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1220400" y="2852640"/>
            <a:ext cx="542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тается «эн факториа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1187280" y="400536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–2)(n–1)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705600" y="981000"/>
            <a:ext cx="71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(n –1)(n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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8"/>
          <p:cNvGrpSpPr/>
          <p:nvPr/>
        </p:nvGrpSpPr>
        <p:grpSpPr>
          <a:xfrm>
            <a:off x="971640" y="1052640"/>
            <a:ext cx="6480000" cy="720720"/>
            <a:chOff x="971640" y="1052640"/>
            <a:chExt cx="6480000" cy="720720"/>
          </a:xfrm>
        </p:grpSpPr>
        <p:sp>
          <p:nvSpPr>
            <p:cNvPr id="387" name="Прямая соединительная линия 20"/>
            <p:cNvSpPr/>
            <p:nvPr/>
          </p:nvSpPr>
          <p:spPr>
            <a:xfrm>
              <a:off x="971640" y="177336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23"/>
            <p:cNvSpPr/>
            <p:nvPr/>
          </p:nvSpPr>
          <p:spPr>
            <a:xfrm>
              <a:off x="97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25"/>
            <p:cNvSpPr/>
            <p:nvPr/>
          </p:nvSpPr>
          <p:spPr>
            <a:xfrm>
              <a:off x="7451640" y="1052640"/>
              <a:ext cx="0" cy="7207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27"/>
            <p:cNvSpPr/>
            <p:nvPr/>
          </p:nvSpPr>
          <p:spPr>
            <a:xfrm>
              <a:off x="971640" y="1052640"/>
              <a:ext cx="648000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54"/>
          <p:cNvGrpSpPr/>
          <p:nvPr/>
        </p:nvGrpSpPr>
        <p:grpSpPr>
          <a:xfrm>
            <a:off x="1042920" y="4005360"/>
            <a:ext cx="6193080" cy="718920"/>
            <a:chOff x="1042920" y="4005360"/>
            <a:chExt cx="6193080" cy="718920"/>
          </a:xfrm>
        </p:grpSpPr>
        <p:sp>
          <p:nvSpPr>
            <p:cNvPr id="392" name="Прямая соединительная линия 30"/>
            <p:cNvSpPr/>
            <p:nvPr/>
          </p:nvSpPr>
          <p:spPr>
            <a:xfrm>
              <a:off x="1042920" y="472428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31"/>
            <p:cNvSpPr/>
            <p:nvPr/>
          </p:nvSpPr>
          <p:spPr>
            <a:xfrm>
              <a:off x="104292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32"/>
            <p:cNvSpPr/>
            <p:nvPr/>
          </p:nvSpPr>
          <p:spPr>
            <a:xfrm>
              <a:off x="7236000" y="4005360"/>
              <a:ext cx="0" cy="71892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33"/>
            <p:cNvSpPr/>
            <p:nvPr/>
          </p:nvSpPr>
          <p:spPr>
            <a:xfrm>
              <a:off x="1042920" y="4005360"/>
              <a:ext cx="6193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55"/>
          <p:cNvSpPr/>
          <p:nvPr/>
        </p:nvSpPr>
        <p:spPr>
          <a:xfrm>
            <a:off x="8425080" y="400536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6"/>
          <p:cNvSpPr/>
          <p:nvPr/>
        </p:nvSpPr>
        <p:spPr>
          <a:xfrm>
            <a:off x="3229920" y="537372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69"/>
          <p:cNvGrpSpPr/>
          <p:nvPr/>
        </p:nvGrpSpPr>
        <p:grpSpPr>
          <a:xfrm>
            <a:off x="3059280" y="5373720"/>
            <a:ext cx="2089080" cy="719280"/>
            <a:chOff x="3059280" y="5373720"/>
            <a:chExt cx="2089080" cy="719280"/>
          </a:xfrm>
        </p:grpSpPr>
        <p:sp>
          <p:nvSpPr>
            <p:cNvPr id="399" name="Прямая соединительная линия 58"/>
            <p:cNvSpPr/>
            <p:nvPr/>
          </p:nvSpPr>
          <p:spPr>
            <a:xfrm>
              <a:off x="3059280" y="609300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59"/>
            <p:cNvSpPr/>
            <p:nvPr/>
          </p:nvSpPr>
          <p:spPr>
            <a:xfrm>
              <a:off x="305928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60"/>
            <p:cNvSpPr/>
            <p:nvPr/>
          </p:nvSpPr>
          <p:spPr>
            <a:xfrm>
              <a:off x="5148360" y="5373720"/>
              <a:ext cx="0" cy="719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ая соединительная линия 61"/>
            <p:cNvSpPr/>
            <p:nvPr/>
          </p:nvSpPr>
          <p:spPr>
            <a:xfrm>
              <a:off x="3059280" y="5373720"/>
              <a:ext cx="208908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Прямоугольник 70"/>
          <p:cNvSpPr/>
          <p:nvPr/>
        </p:nvSpPr>
        <p:spPr>
          <a:xfrm>
            <a:off x="8425080" y="5373720"/>
            <a:ext cx="7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79280" y="115920"/>
            <a:ext cx="5364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9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ти значение: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5! = 5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4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3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2</a:t>
            </a:r>
            <a:r>
              <a:rPr b="1" i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 = 12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Группа 6"/>
          <p:cNvGrpSpPr/>
          <p:nvPr/>
        </p:nvGrpSpPr>
        <p:grpSpPr>
          <a:xfrm>
            <a:off x="179280" y="1052640"/>
            <a:ext cx="3489840" cy="642600"/>
            <a:chOff x="179280" y="1052640"/>
            <a:chExt cx="3489840" cy="642600"/>
          </a:xfrm>
        </p:grpSpPr>
        <p:sp>
          <p:nvSpPr>
            <p:cNvPr id="406" name="Прямоугольник 2"/>
            <p:cNvSpPr/>
            <p:nvPr/>
          </p:nvSpPr>
          <p:spPr>
            <a:xfrm>
              <a:off x="179280" y="1052640"/>
              <a:ext cx="12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2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7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"/>
            <p:cNvSpPr/>
            <p:nvPr/>
          </p:nvSpPr>
          <p:spPr>
            <a:xfrm>
              <a:off x="1331640" y="1052640"/>
              <a:ext cx="15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9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;</a:t>
              </a:r>
              <a:r>
                <a:rPr b="1" i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5"/>
            <p:cNvSpPr/>
            <p:nvPr/>
          </p:nvSpPr>
          <p:spPr>
            <a:xfrm>
              <a:off x="2489760" y="1052640"/>
              <a:ext cx="117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4)</a:t>
              </a:r>
              <a:r>
                <a:rPr b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P</a:t>
              </a: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8 </a:t>
              </a: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7"/>
          <p:cNvSpPr/>
          <p:nvPr/>
        </p:nvSpPr>
        <p:spPr>
          <a:xfrm>
            <a:off x="250920" y="1844640"/>
            <a:ext cx="806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0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рассадить четверых детей на четырех стульях в столовой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179280" y="2924280"/>
            <a:ext cx="806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различных чисел, не содержащих одинаковых цифр, можно записать с помощью цифр 1,2,3,4,5 так, чт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последней была цифра 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первой была цифра 5, а второй – цифр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 первыми были цифры 3 и 4,                         расположенные  в  любом  порядке?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27"/>
          <p:cNvGrpSpPr/>
          <p:nvPr/>
        </p:nvGrpSpPr>
        <p:grpSpPr>
          <a:xfrm>
            <a:off x="256680" y="5805360"/>
            <a:ext cx="7793640" cy="719280"/>
            <a:chOff x="256680" y="5805360"/>
            <a:chExt cx="7793640" cy="719280"/>
          </a:xfrm>
        </p:grpSpPr>
        <p:sp>
          <p:nvSpPr>
            <p:cNvPr id="412" name="TextBox 11"/>
            <p:cNvSpPr/>
            <p:nvPr/>
          </p:nvSpPr>
          <p:spPr>
            <a:xfrm>
              <a:off x="256680" y="587664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12"/>
            <p:cNvSpPr/>
            <p:nvPr/>
          </p:nvSpPr>
          <p:spPr>
            <a:xfrm>
              <a:off x="1910160" y="5877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16"/>
            <p:cNvSpPr/>
            <p:nvPr/>
          </p:nvSpPr>
          <p:spPr>
            <a:xfrm>
              <a:off x="2340000" y="5805360"/>
              <a:ext cx="7189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17"/>
            <p:cNvSpPr/>
            <p:nvPr/>
          </p:nvSpPr>
          <p:spPr>
            <a:xfrm>
              <a:off x="327492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18"/>
            <p:cNvSpPr/>
            <p:nvPr/>
          </p:nvSpPr>
          <p:spPr>
            <a:xfrm>
              <a:off x="4211640" y="5805360"/>
              <a:ext cx="7207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Овал 19"/>
            <p:cNvSpPr/>
            <p:nvPr/>
          </p:nvSpPr>
          <p:spPr>
            <a:xfrm>
              <a:off x="5148360" y="5805360"/>
              <a:ext cx="720720" cy="692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Овал 20"/>
            <p:cNvSpPr/>
            <p:nvPr/>
          </p:nvSpPr>
          <p:spPr>
            <a:xfrm>
              <a:off x="6085080" y="5805360"/>
              <a:ext cx="718920" cy="71928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1"/>
            <p:cNvSpPr/>
            <p:nvPr/>
          </p:nvSpPr>
          <p:spPr>
            <a:xfrm>
              <a:off x="7025400" y="5877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22"/>
            <p:cNvSpPr/>
            <p:nvPr/>
          </p:nvSpPr>
          <p:spPr>
            <a:xfrm>
              <a:off x="248580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23"/>
            <p:cNvSpPr/>
            <p:nvPr/>
          </p:nvSpPr>
          <p:spPr>
            <a:xfrm>
              <a:off x="342216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24"/>
            <p:cNvSpPr/>
            <p:nvPr/>
          </p:nvSpPr>
          <p:spPr>
            <a:xfrm>
              <a:off x="435852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5"/>
            <p:cNvSpPr/>
            <p:nvPr/>
          </p:nvSpPr>
          <p:spPr>
            <a:xfrm>
              <a:off x="5294880" y="58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26"/>
            <p:cNvSpPr/>
            <p:nvPr/>
          </p:nvSpPr>
          <p:spPr>
            <a:xfrm>
              <a:off x="6228360" y="5877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3"/>
          <p:cNvGrpSpPr/>
          <p:nvPr/>
        </p:nvGrpSpPr>
        <p:grpSpPr>
          <a:xfrm>
            <a:off x="185040" y="476280"/>
            <a:ext cx="7587720" cy="720720"/>
            <a:chOff x="185040" y="476280"/>
            <a:chExt cx="7587720" cy="720720"/>
          </a:xfrm>
        </p:grpSpPr>
        <p:sp>
          <p:nvSpPr>
            <p:cNvPr id="426" name="TextBox 4"/>
            <p:cNvSpPr/>
            <p:nvPr/>
          </p:nvSpPr>
          <p:spPr>
            <a:xfrm>
              <a:off x="185040" y="547560"/>
              <a:ext cx="1483920" cy="459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оугольник 5"/>
            <p:cNvSpPr/>
            <p:nvPr/>
          </p:nvSpPr>
          <p:spPr>
            <a:xfrm>
              <a:off x="1838160" y="54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6"/>
            <p:cNvSpPr/>
            <p:nvPr/>
          </p:nvSpPr>
          <p:spPr>
            <a:xfrm>
              <a:off x="226692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Овал 7"/>
            <p:cNvSpPr/>
            <p:nvPr/>
          </p:nvSpPr>
          <p:spPr>
            <a:xfrm>
              <a:off x="320328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Овал 8"/>
            <p:cNvSpPr/>
            <p:nvPr/>
          </p:nvSpPr>
          <p:spPr>
            <a:xfrm>
              <a:off x="4140000" y="47628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9"/>
            <p:cNvSpPr/>
            <p:nvPr/>
          </p:nvSpPr>
          <p:spPr>
            <a:xfrm>
              <a:off x="5075280" y="47628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10"/>
            <p:cNvSpPr/>
            <p:nvPr/>
          </p:nvSpPr>
          <p:spPr>
            <a:xfrm>
              <a:off x="6012000" y="47628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1"/>
            <p:cNvSpPr/>
            <p:nvPr/>
          </p:nvSpPr>
          <p:spPr>
            <a:xfrm>
              <a:off x="6952320" y="548280"/>
              <a:ext cx="82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12"/>
            <p:cNvSpPr/>
            <p:nvPr/>
          </p:nvSpPr>
          <p:spPr>
            <a:xfrm>
              <a:off x="241344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3"/>
            <p:cNvSpPr/>
            <p:nvPr/>
          </p:nvSpPr>
          <p:spPr>
            <a:xfrm>
              <a:off x="3349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4"/>
            <p:cNvSpPr/>
            <p:nvPr/>
          </p:nvSpPr>
          <p:spPr>
            <a:xfrm>
              <a:off x="428580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5"/>
            <p:cNvSpPr/>
            <p:nvPr/>
          </p:nvSpPr>
          <p:spPr>
            <a:xfrm>
              <a:off x="5222160" y="5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6"/>
            <p:cNvSpPr/>
            <p:nvPr/>
          </p:nvSpPr>
          <p:spPr>
            <a:xfrm>
              <a:off x="6156000" y="54828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Группа 17"/>
          <p:cNvGrpSpPr/>
          <p:nvPr/>
        </p:nvGrpSpPr>
        <p:grpSpPr>
          <a:xfrm>
            <a:off x="1838160" y="1413000"/>
            <a:ext cx="6139080" cy="720720"/>
            <a:chOff x="1838160" y="1413000"/>
            <a:chExt cx="6139080" cy="720720"/>
          </a:xfrm>
        </p:grpSpPr>
        <p:sp>
          <p:nvSpPr>
            <p:cNvPr id="440" name="Прямоугольник 19"/>
            <p:cNvSpPr/>
            <p:nvPr/>
          </p:nvSpPr>
          <p:spPr>
            <a:xfrm>
              <a:off x="1838160" y="1485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20"/>
            <p:cNvSpPr/>
            <p:nvPr/>
          </p:nvSpPr>
          <p:spPr>
            <a:xfrm>
              <a:off x="226692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21"/>
            <p:cNvSpPr/>
            <p:nvPr/>
          </p:nvSpPr>
          <p:spPr>
            <a:xfrm>
              <a:off x="320364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22"/>
            <p:cNvSpPr/>
            <p:nvPr/>
          </p:nvSpPr>
          <p:spPr>
            <a:xfrm>
              <a:off x="4138560" y="1413000"/>
              <a:ext cx="7207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23"/>
            <p:cNvSpPr/>
            <p:nvPr/>
          </p:nvSpPr>
          <p:spPr>
            <a:xfrm>
              <a:off x="5075280" y="1413000"/>
              <a:ext cx="720720" cy="693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24"/>
            <p:cNvSpPr/>
            <p:nvPr/>
          </p:nvSpPr>
          <p:spPr>
            <a:xfrm>
              <a:off x="6012000" y="1413000"/>
              <a:ext cx="718920" cy="720720"/>
            </a:xfrm>
            <a:prstGeom prst="ellipse">
              <a:avLst/>
            </a:prstGeom>
            <a:noFill/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25"/>
            <p:cNvSpPr/>
            <p:nvPr/>
          </p:nvSpPr>
          <p:spPr>
            <a:xfrm>
              <a:off x="6952320" y="1485000"/>
              <a:ext cx="102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26"/>
            <p:cNvSpPr/>
            <p:nvPr/>
          </p:nvSpPr>
          <p:spPr>
            <a:xfrm>
              <a:off x="2413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27"/>
            <p:cNvSpPr/>
            <p:nvPr/>
          </p:nvSpPr>
          <p:spPr>
            <a:xfrm>
              <a:off x="3349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28"/>
            <p:cNvSpPr/>
            <p:nvPr/>
          </p:nvSpPr>
          <p:spPr>
            <a:xfrm>
              <a:off x="428544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29"/>
            <p:cNvSpPr/>
            <p:nvPr/>
          </p:nvSpPr>
          <p:spPr>
            <a:xfrm>
              <a:off x="5221800" y="148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30"/>
            <p:cNvSpPr/>
            <p:nvPr/>
          </p:nvSpPr>
          <p:spPr>
            <a:xfrm>
              <a:off x="6155640" y="1485000"/>
              <a:ext cx="3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Прямоугольник 6"/>
          <p:cNvSpPr/>
          <p:nvPr/>
        </p:nvSpPr>
        <p:spPr>
          <a:xfrm>
            <a:off x="0" y="49417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1, № 1063 (четные)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Прямоугольник 32"/>
          <p:cNvGrpSpPr/>
          <p:nvPr/>
        </p:nvGrpSpPr>
        <p:grpSpPr>
          <a:xfrm>
            <a:off x="2773440" y="2438280"/>
            <a:ext cx="2981160" cy="1096920"/>
            <a:chOff x="2773440" y="2438280"/>
            <a:chExt cx="2981160" cy="1096920"/>
          </a:xfrm>
        </p:grpSpPr>
        <p:pic>
          <p:nvPicPr>
            <p:cNvPr id="454" name="Прямоугольник 32" descr=""/>
            <p:cNvPicPr/>
            <p:nvPr/>
          </p:nvPicPr>
          <p:blipFill>
            <a:blip r:embed="rId1"/>
            <a:stretch/>
          </p:blipFill>
          <p:spPr>
            <a:xfrm>
              <a:off x="2773440" y="2438280"/>
              <a:ext cx="2981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059280" y="2708280"/>
              <a:ext cx="24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Упражн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34"/>
          <p:cNvSpPr/>
          <p:nvPr/>
        </p:nvSpPr>
        <p:spPr>
          <a:xfrm>
            <a:off x="2638080" y="371628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№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4 - 1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2" descr=""/>
          <p:cNvPicPr/>
          <p:nvPr/>
        </p:nvPicPr>
        <p:blipFill>
          <a:blip r:embed="rId1"/>
          <a:stretch/>
        </p:blipFill>
        <p:spPr>
          <a:xfrm>
            <a:off x="36360" y="274680"/>
            <a:ext cx="9217080" cy="6723000"/>
          </a:xfrm>
          <a:prstGeom prst="rect">
            <a:avLst/>
          </a:prstGeom>
          <a:ln w="0">
            <a:noFill/>
          </a:ln>
        </p:spPr>
      </p:pic>
      <p:sp>
        <p:nvSpPr>
          <p:cNvPr id="458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28"/>
          <p:cNvSpPr/>
          <p:nvPr/>
        </p:nvSpPr>
        <p:spPr>
          <a:xfrm>
            <a:off x="1547640" y="2271600"/>
            <a:ext cx="5832720" cy="3605400"/>
          </a:xfrm>
          <a:custGeom>
            <a:avLst/>
            <a:gdLst/>
            <a:ahLst/>
            <a:rect l="l" t="t" r="r" b="b"/>
            <a:pathLst>
              <a:path w="3662265" h="2663890">
                <a:moveTo>
                  <a:pt x="0" y="1637523"/>
                </a:moveTo>
                <a:cubicBezTo>
                  <a:pt x="1658516" y="818761"/>
                  <a:pt x="3317033" y="0"/>
                  <a:pt x="3489649" y="41988"/>
                </a:cubicBezTo>
                <a:cubicBezTo>
                  <a:pt x="3662265" y="83976"/>
                  <a:pt x="1090127" y="1715278"/>
                  <a:pt x="1035698" y="1889449"/>
                </a:cubicBezTo>
                <a:cubicBezTo>
                  <a:pt x="981269" y="2063620"/>
                  <a:pt x="3026228" y="1055914"/>
                  <a:pt x="3163077" y="1087016"/>
                </a:cubicBezTo>
                <a:cubicBezTo>
                  <a:pt x="3299926" y="1118118"/>
                  <a:pt x="1853682" y="1976534"/>
                  <a:pt x="1856792" y="2076061"/>
                </a:cubicBezTo>
                <a:cubicBezTo>
                  <a:pt x="1859902" y="2175588"/>
                  <a:pt x="3082213" y="1643743"/>
                  <a:pt x="3181739" y="1684176"/>
                </a:cubicBezTo>
                <a:cubicBezTo>
                  <a:pt x="3281265" y="1724609"/>
                  <a:pt x="2447731" y="2245567"/>
                  <a:pt x="2453951" y="2318657"/>
                </a:cubicBezTo>
                <a:cubicBezTo>
                  <a:pt x="2460171" y="2391747"/>
                  <a:pt x="3142861" y="2090057"/>
                  <a:pt x="3219061" y="2122714"/>
                </a:cubicBezTo>
                <a:cubicBezTo>
                  <a:pt x="3295261" y="2155371"/>
                  <a:pt x="2890935" y="2450841"/>
                  <a:pt x="2911151" y="2514600"/>
                </a:cubicBezTo>
                <a:cubicBezTo>
                  <a:pt x="2931367" y="2578359"/>
                  <a:pt x="3284375" y="2480387"/>
                  <a:pt x="3340359" y="2505269"/>
                </a:cubicBezTo>
                <a:cubicBezTo>
                  <a:pt x="3396343" y="2530151"/>
                  <a:pt x="3321698" y="2597020"/>
                  <a:pt x="3247053" y="2663890"/>
                </a:cubicBezTo>
              </a:path>
            </a:pathLst>
          </a:custGeom>
          <a:noFill/>
          <a:ln cap="rnd"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30"/>
          <p:cNvCxnSpPr/>
          <p:nvPr/>
        </p:nvCxnSpPr>
        <p:spPr>
          <a:xfrm>
            <a:off x="4066920" y="2492280"/>
            <a:ext cx="3026520" cy="367416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8" name="Picture 6" descr="Без имени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1895400" cy="1597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1476360" y="11592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1, 2, 3, 4 при условии, что в каждой записи нет одинаковых циф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212724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4" descr=""/>
          <p:cNvPicPr/>
          <p:nvPr/>
        </p:nvPicPr>
        <p:blipFill>
          <a:blip r:embed="rId3"/>
          <a:stretch/>
        </p:blipFill>
        <p:spPr>
          <a:xfrm>
            <a:off x="1616040" y="2054160"/>
            <a:ext cx="5265720" cy="5367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6813360" y="1773360"/>
            <a:ext cx="16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3, 1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23, 2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 32, 3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, 42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TextBox 7" descr=""/>
          <p:cNvPicPr/>
          <p:nvPr/>
        </p:nvPicPr>
        <p:blipFill>
          <a:blip r:embed="rId4"/>
          <a:stretch/>
        </p:blipFill>
        <p:spPr>
          <a:xfrm>
            <a:off x="122400" y="3638520"/>
            <a:ext cx="8272440" cy="96372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8" descr=""/>
          <p:cNvPicPr/>
          <p:nvPr/>
        </p:nvPicPr>
        <p:blipFill>
          <a:blip r:embed="rId5"/>
          <a:stretch/>
        </p:blipFill>
        <p:spPr>
          <a:xfrm>
            <a:off x="3206880" y="4211640"/>
            <a:ext cx="1931760" cy="568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0"/>
          <p:cNvSpPr/>
          <p:nvPr/>
        </p:nvSpPr>
        <p:spPr>
          <a:xfrm>
            <a:off x="250920" y="508464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дачи видно, что любые два соединения отличаются либо составом элементов (12 и 24), либо порядком их расположения (12 и 21). Такие соединения называют </a:t>
            </a:r>
            <a:r>
              <a:rPr b="1" lang="ru-RU" sz="2400" spc="-1" strike="noStrike">
                <a:solidFill>
                  <a:srgbClr val="e80647"/>
                </a:solidFill>
                <a:latin typeface="Times New Roman"/>
                <a:ea typeface="Times New Roman"/>
              </a:rPr>
              <a:t>размещ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Box 11" descr=""/>
          <p:cNvPicPr/>
          <p:nvPr/>
        </p:nvPicPr>
        <p:blipFill>
          <a:blip r:embed="rId6"/>
          <a:stretch/>
        </p:blipFill>
        <p:spPr>
          <a:xfrm>
            <a:off x="8290080" y="-6480"/>
            <a:ext cx="1280880" cy="6699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666800" y="476280"/>
            <a:ext cx="55278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держ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равило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ерестан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Раз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Электр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95280" y="189000"/>
            <a:ext cx="792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Размещения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 по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 ≤ m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ываются  такие соединения, каждое из которых содержит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ментов, взятых из данных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ных элементов, и которые отличаются одно от другого либо самими элементами, либо порядком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0" y="4149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о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922320" cy="936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482" name="TextBox 5"/>
          <p:cNvSpPr/>
          <p:nvPr/>
        </p:nvSpPr>
        <p:spPr>
          <a:xfrm>
            <a:off x="1321920" y="530064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т «А из эм по эн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6516720" y="5229360"/>
            <a:ext cx="581040" cy="7668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7093080" y="530208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Группа 7"/>
          <p:cNvGrpSpPr/>
          <p:nvPr/>
        </p:nvGrpSpPr>
        <p:grpSpPr>
          <a:xfrm>
            <a:off x="8532720" y="836640"/>
            <a:ext cx="289080" cy="2232000"/>
            <a:chOff x="8532720" y="836640"/>
            <a:chExt cx="289080" cy="2232000"/>
          </a:xfrm>
        </p:grpSpPr>
        <p:sp>
          <p:nvSpPr>
            <p:cNvPr id="487" name="Овал 10"/>
            <p:cNvSpPr/>
            <p:nvPr/>
          </p:nvSpPr>
          <p:spPr>
            <a:xfrm>
              <a:off x="8532720" y="836640"/>
              <a:ext cx="28908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1"/>
            <p:cNvSpPr/>
            <p:nvPr/>
          </p:nvSpPr>
          <p:spPr>
            <a:xfrm>
              <a:off x="8532720" y="2781360"/>
              <a:ext cx="28764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2"/>
          <p:cNvSpPr/>
          <p:nvPr/>
        </p:nvSpPr>
        <p:spPr>
          <a:xfrm>
            <a:off x="90000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m – 1)(m – 2) • … • (m – (n – 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TextBox 5" descr=""/>
          <p:cNvPicPr/>
          <p:nvPr/>
        </p:nvPicPr>
        <p:blipFill>
          <a:blip r:embed="rId1"/>
          <a:stretch/>
        </p:blipFill>
        <p:spPr>
          <a:xfrm>
            <a:off x="-6480" y="1262160"/>
            <a:ext cx="2048040" cy="11397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390600" cy="505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2340000" y="1342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90600" cy="51444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6"/>
          <p:cNvSpPr/>
          <p:nvPr/>
        </p:nvSpPr>
        <p:spPr>
          <a:xfrm>
            <a:off x="5651640" y="13420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• 3 • 2 = 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4"/>
          <a:stretch/>
        </p:blipFill>
        <p:spPr>
          <a:xfrm>
            <a:off x="2627280" y="2133720"/>
            <a:ext cx="390600" cy="5238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9"/>
          <p:cNvSpPr/>
          <p:nvPr/>
        </p:nvSpPr>
        <p:spPr>
          <a:xfrm>
            <a:off x="2987640" y="21344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• 4 • 3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4284720" y="2352960"/>
            <a:ext cx="46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0" y="186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TextBox 22" descr=""/>
          <p:cNvPicPr/>
          <p:nvPr/>
        </p:nvPicPr>
        <p:blipFill>
          <a:blip r:embed="rId5"/>
          <a:stretch/>
        </p:blipFill>
        <p:spPr>
          <a:xfrm>
            <a:off x="171360" y="3352680"/>
            <a:ext cx="1565280" cy="53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23"/>
          <p:cNvSpPr/>
          <p:nvPr/>
        </p:nvSpPr>
        <p:spPr>
          <a:xfrm>
            <a:off x="108000" y="3860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ими способами можно обозначить данный вектор, используя буквы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A, B, C, D, E,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TextBox 24" descr=""/>
          <p:cNvPicPr/>
          <p:nvPr/>
        </p:nvPicPr>
        <p:blipFill>
          <a:blip r:embed="rId6"/>
          <a:stretch/>
        </p:blipFill>
        <p:spPr>
          <a:xfrm>
            <a:off x="244440" y="4791240"/>
            <a:ext cx="1949400" cy="5983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5" descr=""/>
          <p:cNvPicPr/>
          <p:nvPr/>
        </p:nvPicPr>
        <p:blipFill>
          <a:blip r:embed="rId7"/>
          <a:stretch/>
        </p:blipFill>
        <p:spPr>
          <a:xfrm>
            <a:off x="5148360" y="4797360"/>
            <a:ext cx="576000" cy="674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7"/>
          <p:cNvSpPr/>
          <p:nvPr/>
        </p:nvSpPr>
        <p:spPr>
          <a:xfrm>
            <a:off x="5651640" y="48704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•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TextBox 29" descr=""/>
          <p:cNvPicPr/>
          <p:nvPr/>
        </p:nvPicPr>
        <p:blipFill>
          <a:blip r:embed="rId8"/>
          <a:stretch/>
        </p:blipFill>
        <p:spPr>
          <a:xfrm>
            <a:off x="463680" y="579744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510" name="TextBox 30" descr=""/>
          <p:cNvPicPr/>
          <p:nvPr/>
        </p:nvPicPr>
        <p:blipFill>
          <a:blip r:embed="rId9"/>
          <a:stretch/>
        </p:blipFill>
        <p:spPr>
          <a:xfrm>
            <a:off x="2189160" y="5657760"/>
            <a:ext cx="4406760" cy="8827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2"/>
          <p:cNvSpPr/>
          <p:nvPr/>
        </p:nvSpPr>
        <p:spPr>
          <a:xfrm>
            <a:off x="3421440" y="5229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9" descr=""/>
          <p:cNvPicPr/>
          <p:nvPr/>
        </p:nvPicPr>
        <p:blipFill>
          <a:blip r:embed="rId10"/>
          <a:stretch/>
        </p:blipFill>
        <p:spPr>
          <a:xfrm>
            <a:off x="2484360" y="4797360"/>
            <a:ext cx="719280" cy="708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8" descr=""/>
          <p:cNvPicPr/>
          <p:nvPr/>
        </p:nvPicPr>
        <p:blipFill>
          <a:blip r:embed="rId11"/>
          <a:stretch/>
        </p:blipFill>
        <p:spPr>
          <a:xfrm>
            <a:off x="3419640" y="4797360"/>
            <a:ext cx="579240" cy="6876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20"/>
          <p:cNvSpPr/>
          <p:nvPr/>
        </p:nvSpPr>
        <p:spPr>
          <a:xfrm>
            <a:off x="4382640" y="-31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4332960" y="968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2"/>
          <p:cNvSpPr/>
          <p:nvPr/>
        </p:nvSpPr>
        <p:spPr>
          <a:xfrm>
            <a:off x="8484840" y="40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3"/>
          <p:cNvSpPr/>
          <p:nvPr/>
        </p:nvSpPr>
        <p:spPr>
          <a:xfrm>
            <a:off x="8484840" y="270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5"/>
              <p:cNvSpPr txBox="1"/>
              <p:nvPr/>
            </p:nvSpPr>
            <p:spPr>
              <a:xfrm>
                <a:off x="108000" y="260280"/>
                <a:ext cx="887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9" name="Прямая соединительная линия 36"/>
          <p:cNvSpPr/>
          <p:nvPr/>
        </p:nvSpPr>
        <p:spPr>
          <a:xfrm>
            <a:off x="108000" y="26028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40"/>
          <p:cNvSpPr/>
          <p:nvPr/>
        </p:nvSpPr>
        <p:spPr>
          <a:xfrm>
            <a:off x="108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44"/>
          <p:cNvSpPr/>
          <p:nvPr/>
        </p:nvSpPr>
        <p:spPr>
          <a:xfrm>
            <a:off x="108000" y="1197000"/>
            <a:ext cx="8136000" cy="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48"/>
          <p:cNvSpPr/>
          <p:nvPr/>
        </p:nvSpPr>
        <p:spPr>
          <a:xfrm>
            <a:off x="8244000" y="260280"/>
            <a:ext cx="0" cy="936720"/>
          </a:xfrm>
          <a:prstGeom prst="line">
            <a:avLst/>
          </a:prstGeom>
          <a:ln cap="rnd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50"/>
          <p:cNvGrpSpPr/>
          <p:nvPr/>
        </p:nvGrpSpPr>
        <p:grpSpPr>
          <a:xfrm>
            <a:off x="3132000" y="2637000"/>
            <a:ext cx="2303640" cy="863280"/>
            <a:chOff x="3132000" y="2637000"/>
            <a:chExt cx="2303640" cy="863280"/>
          </a:xfrm>
        </p:grpSpPr>
        <p:pic>
          <p:nvPicPr>
            <p:cNvPr id="524" name="Picture 11" descr=""/>
            <p:cNvPicPr/>
            <p:nvPr/>
          </p:nvPicPr>
          <p:blipFill>
            <a:blip r:embed="rId12"/>
            <a:stretch/>
          </p:blipFill>
          <p:spPr>
            <a:xfrm>
              <a:off x="3564000" y="2781000"/>
              <a:ext cx="57600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0" descr=""/>
            <p:cNvPicPr/>
            <p:nvPr/>
          </p:nvPicPr>
          <p:blipFill>
            <a:blip r:embed="rId13"/>
            <a:stretch/>
          </p:blipFill>
          <p:spPr>
            <a:xfrm>
              <a:off x="4787640" y="2763720"/>
              <a:ext cx="533160" cy="6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Прямая соединительная линия 38"/>
            <p:cNvSpPr/>
            <p:nvPr/>
          </p:nvSpPr>
          <p:spPr>
            <a:xfrm>
              <a:off x="3132000" y="263700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рямая соединительная линия 41"/>
            <p:cNvSpPr/>
            <p:nvPr/>
          </p:nvSpPr>
          <p:spPr>
            <a:xfrm>
              <a:off x="543564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рямая соединительная линия 46"/>
            <p:cNvSpPr/>
            <p:nvPr/>
          </p:nvSpPr>
          <p:spPr>
            <a:xfrm>
              <a:off x="3132000" y="2637000"/>
              <a:ext cx="0" cy="86328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рямая соединительная линия 49"/>
            <p:cNvSpPr/>
            <p:nvPr/>
          </p:nvSpPr>
          <p:spPr>
            <a:xfrm>
              <a:off x="3132000" y="3500280"/>
              <a:ext cx="2303640" cy="0"/>
            </a:xfrm>
            <a:prstGeom prst="line">
              <a:avLst/>
            </a:prstGeom>
            <a:ln cap="rnd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TextBox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2468880" cy="890280"/>
          </a:xfrm>
          <a:prstGeom prst="rect">
            <a:avLst/>
          </a:prstGeom>
          <a:ln w="0">
            <a:noFill/>
          </a:ln>
        </p:spPr>
      </p:pic>
      <p:pic>
        <p:nvPicPr>
          <p:cNvPr id="531" name="TextBox 2" descr=""/>
          <p:cNvPicPr/>
          <p:nvPr/>
        </p:nvPicPr>
        <p:blipFill>
          <a:blip r:embed="rId2"/>
          <a:stretch/>
        </p:blipFill>
        <p:spPr>
          <a:xfrm>
            <a:off x="2835360" y="828720"/>
            <a:ext cx="3327480" cy="536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875640" y="90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481680" y="177336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≥ 2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291960" cy="5191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0"/>
          <p:cNvSpPr/>
          <p:nvPr/>
        </p:nvSpPr>
        <p:spPr>
          <a:xfrm>
            <a:off x="4441680" y="184464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По формуле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9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576000" cy="73008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1"/>
          <p:cNvSpPr/>
          <p:nvPr/>
        </p:nvSpPr>
        <p:spPr>
          <a:xfrm>
            <a:off x="294840" y="4724280"/>
            <a:ext cx="52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оронний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extBox 52" descr=""/>
          <p:cNvPicPr/>
          <p:nvPr/>
        </p:nvPicPr>
        <p:blipFill>
          <a:blip r:embed="rId5"/>
          <a:stretch/>
        </p:blipFill>
        <p:spPr>
          <a:xfrm>
            <a:off x="244440" y="5510160"/>
            <a:ext cx="1365120" cy="536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53"/>
          <p:cNvSpPr/>
          <p:nvPr/>
        </p:nvSpPr>
        <p:spPr>
          <a:xfrm>
            <a:off x="1619280" y="544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Группа 48"/>
          <p:cNvGrpSpPr/>
          <p:nvPr/>
        </p:nvGrpSpPr>
        <p:grpSpPr>
          <a:xfrm>
            <a:off x="539640" y="2637000"/>
            <a:ext cx="7401600" cy="1979280"/>
            <a:chOff x="539640" y="2637000"/>
            <a:chExt cx="7401600" cy="1979280"/>
          </a:xfrm>
        </p:grpSpPr>
        <p:sp>
          <p:nvSpPr>
            <p:cNvPr id="549" name="TextBox 15"/>
            <p:cNvSpPr/>
            <p:nvPr/>
          </p:nvSpPr>
          <p:spPr>
            <a:xfrm>
              <a:off x="1124640" y="2708280"/>
              <a:ext cx="22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(n – 1)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3" descr=""/>
            <p:cNvPicPr/>
            <p:nvPr/>
          </p:nvPicPr>
          <p:blipFill>
            <a:blip r:embed="rId6"/>
            <a:stretch/>
          </p:blipFill>
          <p:spPr>
            <a:xfrm>
              <a:off x="327636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25"/>
            <p:cNvSpPr/>
            <p:nvPr/>
          </p:nvSpPr>
          <p:spPr>
            <a:xfrm>
              <a:off x="3700800" y="2708280"/>
              <a:ext cx="187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т. е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Picture 19" descr=""/>
            <p:cNvPicPr/>
            <p:nvPr/>
          </p:nvPicPr>
          <p:blipFill>
            <a:blip r:embed="rId7"/>
            <a:stretch/>
          </p:blipFill>
          <p:spPr>
            <a:xfrm>
              <a:off x="539640" y="2637000"/>
              <a:ext cx="576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1" descr=""/>
            <p:cNvPicPr/>
            <p:nvPr/>
          </p:nvPicPr>
          <p:blipFill>
            <a:blip r:embed="rId8"/>
            <a:stretch/>
          </p:blipFill>
          <p:spPr>
            <a:xfrm>
              <a:off x="5580000" y="2779560"/>
              <a:ext cx="431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Прямоугольник 31"/>
            <p:cNvSpPr/>
            <p:nvPr/>
          </p:nvSpPr>
          <p:spPr>
            <a:xfrm>
              <a:off x="6012000" y="270828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24" descr=""/>
            <p:cNvPicPr/>
            <p:nvPr/>
          </p:nvPicPr>
          <p:blipFill>
            <a:blip r:embed="rId9"/>
            <a:stretch/>
          </p:blipFill>
          <p:spPr>
            <a:xfrm>
              <a:off x="610920" y="3500280"/>
              <a:ext cx="4330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26"/>
            <p:cNvSpPr/>
            <p:nvPr/>
          </p:nvSpPr>
          <p:spPr>
            <a:xfrm>
              <a:off x="1044360" y="343008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56 = 0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28" descr=""/>
            <p:cNvPicPr/>
            <p:nvPr/>
          </p:nvPicPr>
          <p:blipFill>
            <a:blip r:embed="rId10"/>
            <a:stretch/>
          </p:blipFill>
          <p:spPr>
            <a:xfrm>
              <a:off x="331632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27" descr=""/>
            <p:cNvPicPr/>
            <p:nvPr/>
          </p:nvPicPr>
          <p:blipFill>
            <a:blip r:embed="rId11"/>
            <a:stretch/>
          </p:blipFill>
          <p:spPr>
            <a:xfrm>
              <a:off x="414648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0"/>
            <p:cNvSpPr/>
            <p:nvPr/>
          </p:nvSpPr>
          <p:spPr>
            <a:xfrm>
              <a:off x="3779640" y="3501720"/>
              <a:ext cx="3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>
              <a:off x="4572000" y="3471480"/>
              <a:ext cx="8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28" descr=""/>
            <p:cNvPicPr/>
            <p:nvPr/>
          </p:nvPicPr>
          <p:blipFill>
            <a:blip r:embed="rId12"/>
            <a:stretch/>
          </p:blipFill>
          <p:spPr>
            <a:xfrm>
              <a:off x="334800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42"/>
            <p:cNvSpPr/>
            <p:nvPr/>
          </p:nvSpPr>
          <p:spPr>
            <a:xfrm>
              <a:off x="3781440" y="407664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27" descr=""/>
            <p:cNvPicPr/>
            <p:nvPr/>
          </p:nvPicPr>
          <p:blipFill>
            <a:blip r:embed="rId13"/>
            <a:stretch/>
          </p:blipFill>
          <p:spPr>
            <a:xfrm>
              <a:off x="39956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44"/>
            <p:cNvSpPr/>
            <p:nvPr/>
          </p:nvSpPr>
          <p:spPr>
            <a:xfrm>
              <a:off x="4507200" y="400356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6"/>
            <p:cNvSpPr/>
            <p:nvPr/>
          </p:nvSpPr>
          <p:spPr>
            <a:xfrm>
              <a:off x="5572800" y="3716280"/>
              <a:ext cx="7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 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28" descr=""/>
            <p:cNvPicPr/>
            <p:nvPr/>
          </p:nvPicPr>
          <p:blipFill>
            <a:blip r:embed="rId14"/>
            <a:stretch/>
          </p:blipFill>
          <p:spPr>
            <a:xfrm>
              <a:off x="6661440" y="3500280"/>
              <a:ext cx="46332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8"/>
            <p:cNvSpPr/>
            <p:nvPr/>
          </p:nvSpPr>
          <p:spPr>
            <a:xfrm>
              <a:off x="7024320" y="3500280"/>
              <a:ext cx="91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–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27" descr=""/>
            <p:cNvPicPr/>
            <p:nvPr/>
          </p:nvPicPr>
          <p:blipFill>
            <a:blip r:embed="rId15"/>
            <a:stretch/>
          </p:blipFill>
          <p:spPr>
            <a:xfrm>
              <a:off x="6661440" y="4003560"/>
              <a:ext cx="463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50"/>
            <p:cNvSpPr/>
            <p:nvPr/>
          </p:nvSpPr>
          <p:spPr>
            <a:xfrm>
              <a:off x="7095600" y="40035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44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Object 45"/>
                <p:cNvSpPr txBox="1"/>
                <p:nvPr/>
              </p:nvSpPr>
              <p:spPr>
                <a:xfrm>
                  <a:off x="4875120" y="44006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6"/>
              <p:cNvSpPr txBox="1"/>
              <p:nvPr/>
            </p:nvSpPr>
            <p:spPr>
              <a:xfrm>
                <a:off x="179280" y="836640"/>
                <a:ext cx="8209080" cy="36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Прямоугольник 9"/>
          <p:cNvSpPr/>
          <p:nvPr/>
        </p:nvSpPr>
        <p:spPr>
          <a:xfrm>
            <a:off x="3290400" y="18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TextBox 10" descr=""/>
          <p:cNvPicPr/>
          <p:nvPr/>
        </p:nvPicPr>
        <p:blipFill>
          <a:blip r:embed="rId1"/>
          <a:stretch/>
        </p:blipFill>
        <p:spPr>
          <a:xfrm>
            <a:off x="334800" y="-49320"/>
            <a:ext cx="2183040" cy="13845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11"/>
          <p:cNvSpPr/>
          <p:nvPr/>
        </p:nvSpPr>
        <p:spPr>
          <a:xfrm>
            <a:off x="338040" y="436572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твет: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Прямоугольник 12" descr=""/>
          <p:cNvPicPr/>
          <p:nvPr/>
        </p:nvPicPr>
        <p:blipFill>
          <a:blip r:embed="rId2"/>
          <a:stretch/>
        </p:blipFill>
        <p:spPr>
          <a:xfrm>
            <a:off x="171360" y="5126040"/>
            <a:ext cx="2498760" cy="6285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3"/>
          <p:cNvSpPr/>
          <p:nvPr/>
        </p:nvSpPr>
        <p:spPr>
          <a:xfrm>
            <a:off x="971640" y="59500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r>
              <a:rPr b="1" i="1" lang="ru-RU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2, № 1072, 10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4"/>
          <p:cNvSpPr/>
          <p:nvPr/>
        </p:nvSpPr>
        <p:spPr>
          <a:xfrm>
            <a:off x="3222720" y="5084640"/>
            <a:ext cx="37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№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73 – № 107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4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6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8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81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extBox 14" descr=""/>
          <p:cNvPicPr/>
          <p:nvPr/>
        </p:nvPicPr>
        <p:blipFill>
          <a:blip r:embed="rId1"/>
          <a:stretch/>
        </p:blipFill>
        <p:spPr>
          <a:xfrm>
            <a:off x="298440" y="792000"/>
            <a:ext cx="8826480" cy="175608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11" descr=""/>
          <p:cNvPicPr/>
          <p:nvPr/>
        </p:nvPicPr>
        <p:blipFill>
          <a:blip r:embed="rId2"/>
          <a:stretch/>
        </p:blipFill>
        <p:spPr>
          <a:xfrm>
            <a:off x="2279520" y="5626080"/>
            <a:ext cx="4767480" cy="708120"/>
          </a:xfrm>
          <a:prstGeom prst="rect">
            <a:avLst/>
          </a:prstGeom>
          <a:ln w="0">
            <a:noFill/>
          </a:ln>
        </p:spPr>
      </p:pic>
      <p:pic>
        <p:nvPicPr>
          <p:cNvPr id="591" name="TextBox 12" descr=""/>
          <p:cNvPicPr/>
          <p:nvPr/>
        </p:nvPicPr>
        <p:blipFill>
          <a:blip r:embed="rId3"/>
          <a:stretch/>
        </p:blipFill>
        <p:spPr>
          <a:xfrm>
            <a:off x="1560600" y="3176640"/>
            <a:ext cx="599256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2"/>
          <p:cNvSpPr txBox="1"/>
          <p:nvPr/>
        </p:nvSpPr>
        <p:spPr>
          <a:xfrm rot="20737800">
            <a:off x="336600" y="1401480"/>
            <a:ext cx="7888320" cy="515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7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0cf9b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0cf9b"/>
              </a:solidFill>
              <a:latin typeface="Impact"/>
              <a:ea typeface="Impact"/>
            </a:endParaRPr>
          </a:p>
        </p:txBody>
      </p:sp>
      <p:sp>
        <p:nvSpPr>
          <p:cNvPr id="593" name="Дуга 6"/>
          <p:cNvSpPr/>
          <p:nvPr/>
        </p:nvSpPr>
        <p:spPr>
          <a:xfrm>
            <a:off x="8028000" y="1890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Дуга 7"/>
          <p:cNvSpPr/>
          <p:nvPr/>
        </p:nvSpPr>
        <p:spPr>
          <a:xfrm rot="16200000">
            <a:off x="226080" y="141840"/>
            <a:ext cx="884160" cy="978120"/>
          </a:xfrm>
          <a:custGeom>
            <a:avLst/>
            <a:gdLst>
              <a:gd name="textAreaLeft" fmla="*/ 442080 w 884160"/>
              <a:gd name="textAreaRight" fmla="*/ 884520 w 884160"/>
              <a:gd name="textAreaTop" fmla="*/ 0 h 978120"/>
              <a:gd name="textAreaBottom" fmla="*/ 489240 h 978120"/>
            </a:gdLst>
            <a:ahLst/>
            <a:rect l="textAreaLeft" t="textAreaTop" r="textAreaRight" b="textAreaBottom"/>
            <a:pathLst>
              <a:path stroke="0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  <a:lnTo>
                  <a:pt x="442119" y="488950"/>
                </a:lnTo>
                <a:close/>
              </a:path>
              <a:path fill="none" w="884237" h="977900">
                <a:moveTo>
                  <a:pt x="442119" y="0"/>
                </a:moveTo>
                <a:lnTo>
                  <a:pt x="442119" y="0"/>
                </a:lnTo>
                <a:arcTo wR="442119" hR="488950" stAng="-5399993" swAng="5400001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Дуга 8"/>
          <p:cNvSpPr/>
          <p:nvPr/>
        </p:nvSpPr>
        <p:spPr>
          <a:xfrm rot="10800000">
            <a:off x="17928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Дуга 9"/>
          <p:cNvSpPr/>
          <p:nvPr/>
        </p:nvSpPr>
        <p:spPr>
          <a:xfrm rot="5400000">
            <a:off x="8028000" y="57326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cap="rnd" w="93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15"/>
          <p:cNvSpPr/>
          <p:nvPr/>
        </p:nvSpPr>
        <p:spPr>
          <a:xfrm>
            <a:off x="8942400" y="646200"/>
            <a:ext cx="0" cy="554508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20"/>
          <p:cNvSpPr/>
          <p:nvPr/>
        </p:nvSpPr>
        <p:spPr>
          <a:xfrm>
            <a:off x="668160" y="189000"/>
            <a:ext cx="781704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22"/>
          <p:cNvSpPr/>
          <p:nvPr/>
        </p:nvSpPr>
        <p:spPr>
          <a:xfrm>
            <a:off x="179280" y="631800"/>
            <a:ext cx="0" cy="555804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25"/>
          <p:cNvSpPr/>
          <p:nvPr/>
        </p:nvSpPr>
        <p:spPr>
          <a:xfrm>
            <a:off x="636480" y="6647040"/>
            <a:ext cx="7848720" cy="0"/>
          </a:xfrm>
          <a:prstGeom prst="line">
            <a:avLst/>
          </a:prstGeom>
          <a:ln cap="rnd" w="93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TextBox 14" descr=""/>
          <p:cNvPicPr/>
          <p:nvPr/>
        </p:nvPicPr>
        <p:blipFill>
          <a:blip r:embed="rId1"/>
          <a:stretch/>
        </p:blipFill>
        <p:spPr>
          <a:xfrm>
            <a:off x="1566720" y="-12600"/>
            <a:ext cx="6255000" cy="866520"/>
          </a:xfrm>
          <a:prstGeom prst="rect">
            <a:avLst/>
          </a:prstGeom>
          <a:ln w="0">
            <a:noFill/>
          </a:ln>
        </p:spPr>
      </p:pic>
      <p:pic>
        <p:nvPicPr>
          <p:cNvPr id="602" name="TextBox 12" descr=""/>
          <p:cNvPicPr/>
          <p:nvPr/>
        </p:nvPicPr>
        <p:blipFill>
          <a:blip r:embed="rId2"/>
          <a:stretch/>
        </p:blipFill>
        <p:spPr>
          <a:xfrm>
            <a:off x="-55440" y="858960"/>
            <a:ext cx="9199440" cy="5145120"/>
          </a:xfrm>
          <a:prstGeom prst="rect">
            <a:avLst/>
          </a:prstGeom>
          <a:ln w="0">
            <a:noFill/>
          </a:ln>
        </p:spPr>
      </p:pic>
      <p:pic>
        <p:nvPicPr>
          <p:cNvPr id="603" name="TextBox 13" descr=""/>
          <p:cNvPicPr/>
          <p:nvPr/>
        </p:nvPicPr>
        <p:blipFill>
          <a:blip r:embed="rId3"/>
          <a:stretch/>
        </p:blipFill>
        <p:spPr>
          <a:xfrm>
            <a:off x="2212920" y="5986440"/>
            <a:ext cx="4767480" cy="70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29242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Правило 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50920" y="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Комбинаторика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 Black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то раздел математики, в котором изучаются вопросы о том, сколько различных комбинаций, подчиненных тем или иным условиям, можно составить из задан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0920" y="357336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Если существует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первого элемента и для каждого из них имеется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ариантов выбора второго элемента, то всего существует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m • n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различных пар с выбранными таким образом первым и вторым элемен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9"/>
          <p:cNvGrpSpPr/>
          <p:nvPr/>
        </p:nvGrpSpPr>
        <p:grpSpPr>
          <a:xfrm>
            <a:off x="8604360" y="3933720"/>
            <a:ext cx="288720" cy="2232000"/>
            <a:chOff x="8604360" y="3933720"/>
            <a:chExt cx="288720" cy="2232000"/>
          </a:xfrm>
        </p:grpSpPr>
        <p:sp>
          <p:nvSpPr>
            <p:cNvPr id="189" name="Овал 10"/>
            <p:cNvSpPr/>
            <p:nvPr/>
          </p:nvSpPr>
          <p:spPr>
            <a:xfrm>
              <a:off x="8604360" y="3933720"/>
              <a:ext cx="288720" cy="172872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"/>
            <p:cNvSpPr/>
            <p:nvPr/>
          </p:nvSpPr>
          <p:spPr>
            <a:xfrm>
              <a:off x="8604360" y="5878440"/>
              <a:ext cx="287280" cy="287280"/>
            </a:xfrm>
            <a:prstGeom prst="ellipse">
              <a:avLst/>
            </a:prstGeom>
            <a:solidFill>
              <a:srgbClr val="ff00ff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 Box 2"/>
          <p:cNvGrpSpPr/>
          <p:nvPr/>
        </p:nvGrpSpPr>
        <p:grpSpPr>
          <a:xfrm>
            <a:off x="171360" y="182520"/>
            <a:ext cx="1596960" cy="476280"/>
            <a:chOff x="171360" y="182520"/>
            <a:chExt cx="1596960" cy="476280"/>
          </a:xfrm>
        </p:grpSpPr>
        <p:pic>
          <p:nvPicPr>
            <p:cNvPr id="192" name="Text Box 2" descr=""/>
            <p:cNvPicPr/>
            <p:nvPr/>
          </p:nvPicPr>
          <p:blipFill>
            <a:blip r:embed="rId1"/>
            <a:stretch/>
          </p:blipFill>
          <p:spPr>
            <a:xfrm>
              <a:off x="171360" y="182520"/>
              <a:ext cx="15969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9280" y="189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а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"/>
          <p:cNvGrpSpPr/>
          <p:nvPr/>
        </p:nvGrpSpPr>
        <p:grpSpPr>
          <a:xfrm>
            <a:off x="4859280" y="765000"/>
            <a:ext cx="3816360" cy="1008000"/>
            <a:chOff x="4859280" y="765000"/>
            <a:chExt cx="3816360" cy="1008000"/>
          </a:xfrm>
        </p:grpSpPr>
        <p:sp>
          <p:nvSpPr>
            <p:cNvPr id="195" name="Text Box 7"/>
            <p:cNvSpPr/>
            <p:nvPr/>
          </p:nvSpPr>
          <p:spPr>
            <a:xfrm>
              <a:off x="4859280" y="765000"/>
              <a:ext cx="381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WordArt 8"/>
            <p:cNvGrpSpPr/>
            <p:nvPr/>
          </p:nvGrpSpPr>
          <p:grpSpPr>
            <a:xfrm>
              <a:off x="7302600" y="1403280"/>
              <a:ext cx="517320" cy="369720"/>
              <a:chOff x="7302600" y="1403280"/>
              <a:chExt cx="517320" cy="369720"/>
            </a:xfrm>
          </p:grpSpPr>
          <p:pic>
            <p:nvPicPr>
              <p:cNvPr id="197" name="WordAr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2600" y="1403280"/>
                <a:ext cx="51732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7306560" y="1408320"/>
                <a:ext cx="50400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30"/>
          <p:cNvSpPr/>
          <p:nvPr/>
        </p:nvSpPr>
        <p:spPr>
          <a:xfrm>
            <a:off x="161928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761400" y="112536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255600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 n = 4;  m • 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5370840" y="191628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6"/>
          <p:cNvSpPr/>
          <p:nvPr/>
        </p:nvSpPr>
        <p:spPr>
          <a:xfrm>
            <a:off x="179280" y="2637000"/>
            <a:ext cx="158436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1692360" y="249228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 0, 1, 2,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761400" y="350028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9"/>
          <p:cNvSpPr/>
          <p:nvPr/>
        </p:nvSpPr>
        <p:spPr>
          <a:xfrm>
            <a:off x="2556000" y="3500280"/>
            <a:ext cx="54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, n=4, k=4;  mnk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• 4 • 4 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0"/>
          <p:cNvSpPr/>
          <p:nvPr/>
        </p:nvSpPr>
        <p:spPr>
          <a:xfrm>
            <a:off x="5370840" y="422100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4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7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4572000" y="5013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1"/>
          <p:cNvSpPr/>
          <p:nvPr/>
        </p:nvSpPr>
        <p:spPr>
          <a:xfrm>
            <a:off x="179280" y="4797360"/>
            <a:ext cx="165600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2"/>
          <p:cNvSpPr/>
          <p:nvPr/>
        </p:nvSpPr>
        <p:spPr>
          <a:xfrm>
            <a:off x="1908000" y="479736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пятибуквенных слов можно записать с помощью бук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</a:t>
            </a:r>
            <a:r>
              <a:rPr b="1" i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3"/>
          <p:cNvSpPr/>
          <p:nvPr/>
        </p:nvSpPr>
        <p:spPr>
          <a:xfrm>
            <a:off x="761400" y="5589720"/>
            <a:ext cx="1483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1476360" y="558972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, b = 2, c = 2, d = 2, f=2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5"/>
          <p:cNvSpPr/>
          <p:nvPr/>
        </p:nvSpPr>
        <p:spPr>
          <a:xfrm>
            <a:off x="5371920" y="6237360"/>
            <a:ext cx="150048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4" descr=""/>
          <p:cNvPicPr/>
          <p:nvPr/>
        </p:nvPicPr>
        <p:blipFill>
          <a:blip r:embed="rId3"/>
          <a:stretch/>
        </p:blipFill>
        <p:spPr>
          <a:xfrm>
            <a:off x="3995640" y="6165720"/>
            <a:ext cx="360360" cy="4716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3"/>
          <p:cNvSpPr/>
          <p:nvPr/>
        </p:nvSpPr>
        <p:spPr>
          <a:xfrm>
            <a:off x="4288680" y="60930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64" descr=""/>
          <p:cNvPicPr/>
          <p:nvPr/>
        </p:nvPicPr>
        <p:blipFill>
          <a:blip r:embed="rId4"/>
          <a:stretch/>
        </p:blipFill>
        <p:spPr>
          <a:xfrm>
            <a:off x="7156440" y="5297400"/>
            <a:ext cx="1444680" cy="15670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0"/>
          <p:cNvSpPr/>
          <p:nvPr/>
        </p:nvSpPr>
        <p:spPr>
          <a:xfrm>
            <a:off x="1416600" y="609300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• 2 • 2 • 2 •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1"/>
          <p:cNvSpPr/>
          <p:nvPr/>
        </p:nvSpPr>
        <p:spPr>
          <a:xfrm>
            <a:off x="187200" y="60930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f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53" descr=""/>
          <p:cNvPicPr/>
          <p:nvPr/>
        </p:nvPicPr>
        <p:blipFill>
          <a:blip r:embed="rId5"/>
          <a:stretch/>
        </p:blipFill>
        <p:spPr>
          <a:xfrm>
            <a:off x="7885080" y="5516640"/>
            <a:ext cx="979560" cy="963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5" descr=""/>
          <p:cNvPicPr/>
          <p:nvPr/>
        </p:nvPicPr>
        <p:blipFill>
          <a:blip r:embed="rId6"/>
          <a:stretch/>
        </p:blipFill>
        <p:spPr>
          <a:xfrm>
            <a:off x="6948360" y="765000"/>
            <a:ext cx="201960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4" descr="I:\Documents and Settings\Kseniya\Рабочий стол\Новая папка\242711_(www.GdeFon.ru).jpg"/>
          <p:cNvPicPr/>
          <p:nvPr/>
        </p:nvPicPr>
        <p:blipFill>
          <a:blip r:embed="rId7"/>
          <a:stretch/>
        </p:blipFill>
        <p:spPr>
          <a:xfrm rot="20158800">
            <a:off x="7553160" y="3728880"/>
            <a:ext cx="1390680" cy="127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extBox 1" descr=""/>
          <p:cNvPicPr/>
          <p:nvPr/>
        </p:nvPicPr>
        <p:blipFill>
          <a:blip r:embed="rId1"/>
          <a:stretch/>
        </p:blipFill>
        <p:spPr>
          <a:xfrm>
            <a:off x="128520" y="-652320"/>
            <a:ext cx="5834160" cy="2603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784680" y="10526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0" y="148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двузначных чисел 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ны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ами можно записать, используя циф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вариант: 1)   1, 2 и 3;   3)   5, 6, 7 и 8;  5)   0, 2, 4 и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2)  4, 5, и 6;  4)   6, 7, 8 и 9;  6)   0, 3, 5 и 7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0" y="3357720"/>
            <a:ext cx="694836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3), 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5), 6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56320" y="38606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0" y="429264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   1)  2 и 3;               3)  0 и 2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   2)  8 и 9;               4)   0 и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0" y="6334200"/>
            <a:ext cx="4859280" cy="947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3),4)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справка 11">
            <a:hlinkClick r:id="rId2" action="ppaction://hlinksldjump"/>
          </p:cNvPr>
          <p:cNvSpPr/>
          <p:nvPr/>
        </p:nvSpPr>
        <p:spPr>
          <a:xfrm>
            <a:off x="8388360" y="2421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160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036">
                <a:moveTo>
                  <a:pt x="11905" y="15499"/>
                </a:moveTo>
                <a:lnTo>
                  <a:pt x="11905" y="13541"/>
                </a:lnTo>
                <a:cubicBezTo>
                  <a:pt x="11905" y="12714"/>
                  <a:pt x="12236" y="12018"/>
                  <a:pt x="12837" y="12018"/>
                </a:cubicBezTo>
                <a:cubicBezTo>
                  <a:pt x="13968" y="12018"/>
                  <a:pt x="14865" y="10652"/>
                  <a:pt x="14865" y="9067"/>
                </a:cubicBezTo>
                <a:cubicBezTo>
                  <a:pt x="14865" y="6752"/>
                  <a:pt x="13011" y="5012"/>
                  <a:pt x="10800" y="5012"/>
                </a:cubicBezTo>
                <a:cubicBezTo>
                  <a:pt x="8589" y="5012"/>
                  <a:pt x="6918" y="6752"/>
                  <a:pt x="6918" y="9067"/>
                </a:cubicBezTo>
                <a:lnTo>
                  <a:pt x="8772" y="9067"/>
                </a:lnTo>
                <a:cubicBezTo>
                  <a:pt x="8772" y="7927"/>
                  <a:pt x="9695" y="7039"/>
                  <a:pt x="10800" y="7039"/>
                </a:cubicBezTo>
                <a:cubicBezTo>
                  <a:pt x="11905" y="7039"/>
                  <a:pt x="12837" y="7927"/>
                  <a:pt x="12837" y="9067"/>
                </a:cubicBezTo>
                <a:cubicBezTo>
                  <a:pt x="12837" y="9807"/>
                  <a:pt x="12367" y="10538"/>
                  <a:pt x="11905" y="10538"/>
                </a:cubicBezTo>
                <a:cubicBezTo>
                  <a:pt x="10800" y="10538"/>
                  <a:pt x="9695" y="12018"/>
                  <a:pt x="9695" y="13541"/>
                </a:cubicBezTo>
                <a:lnTo>
                  <a:pt x="9695" y="15499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сведения 12">
            <a:hlinkClick r:id="rId3" action="ppaction://hlinksldjump"/>
          </p:cNvPr>
          <p:cNvSpPr/>
          <p:nvPr/>
        </p:nvSpPr>
        <p:spPr>
          <a:xfrm>
            <a:off x="8388360" y="5229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501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036">
                <a:moveTo>
                  <a:pt x="10800" y="538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036">
                <a:moveTo>
                  <a:pt x="8224" y="9442"/>
                </a:moveTo>
                <a:lnTo>
                  <a:pt x="12088" y="9442"/>
                </a:lnTo>
                <a:lnTo>
                  <a:pt x="12088" y="16439"/>
                </a:lnTo>
                <a:lnTo>
                  <a:pt x="13376" y="16439"/>
                </a:lnTo>
                <a:lnTo>
                  <a:pt x="13376" y="17362"/>
                </a:lnTo>
                <a:lnTo>
                  <a:pt x="8224" y="17362"/>
                </a:lnTo>
                <a:lnTo>
                  <a:pt x="8224" y="16439"/>
                </a:lnTo>
                <a:lnTo>
                  <a:pt x="9512" y="16439"/>
                </a:lnTo>
                <a:lnTo>
                  <a:pt x="9512" y="10347"/>
                </a:lnTo>
                <a:lnTo>
                  <a:pt x="8224" y="10347"/>
                </a:lnTo>
                <a:close/>
              </a:path>
            </a:pathLst>
          </a:custGeom>
          <a:noFill/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3639960" y="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95280" y="404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трехзначных чисел, не имеющих одинаковых цифр, можно записать с помощью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3, 4 и 5;     3)  5, 6, 7 и 8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7, 8, и 9;    4)  1, 2, 3 и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7160" y="2852640"/>
            <a:ext cx="70920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,2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                       3),4)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639960" y="3716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95280" y="422100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личных четырехбуквенных «слов» можно записать с помощью 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:    1)  «м» и «а»;   3)  «к», «а» и «о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:    2)  «п» и «а»;    4)  «ш», «а» и «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31320" y="6093000"/>
            <a:ext cx="5237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), 2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3), 4)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8202600" y="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371232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0" y="476280"/>
            <a:ext cx="83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может попасть из пункта А в пункт С, проехав через пункт В. Между пунктами А и В имеются три различные дороги, а между пунктами В и С  - четыре различные дороги. Сколько существует различных маршрутов между пунктами А и 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87920" y="4076640"/>
            <a:ext cx="1695600" cy="520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98720" y="5732640"/>
            <a:ext cx="50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3, n = 4;   mn = 3•4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303520" y="6237360"/>
            <a:ext cx="180540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1"/>
          <p:cNvGrpSpPr/>
          <p:nvPr/>
        </p:nvGrpSpPr>
        <p:grpSpPr>
          <a:xfrm>
            <a:off x="2050920" y="4149720"/>
            <a:ext cx="5739120" cy="1881360"/>
            <a:chOff x="2050920" y="4149720"/>
            <a:chExt cx="5739120" cy="1881360"/>
          </a:xfrm>
        </p:grpSpPr>
        <p:sp>
          <p:nvSpPr>
            <p:cNvPr id="270" name="Овал 6"/>
            <p:cNvSpPr/>
            <p:nvPr/>
          </p:nvSpPr>
          <p:spPr>
            <a:xfrm>
              <a:off x="205092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Овал 7"/>
            <p:cNvSpPr/>
            <p:nvPr/>
          </p:nvSpPr>
          <p:spPr>
            <a:xfrm>
              <a:off x="4427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Овал 8"/>
            <p:cNvSpPr/>
            <p:nvPr/>
          </p:nvSpPr>
          <p:spPr>
            <a:xfrm>
              <a:off x="6875640" y="4378320"/>
              <a:ext cx="914400" cy="914400"/>
            </a:xfrm>
            <a:prstGeom prst="ellipse">
              <a:avLst/>
            </a:prstGeom>
            <a:solidFill>
              <a:srgbClr val="eeece1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олилиния 12"/>
            <p:cNvSpPr/>
            <p:nvPr/>
          </p:nvSpPr>
          <p:spPr>
            <a:xfrm>
              <a:off x="2987640" y="4378320"/>
              <a:ext cx="1468440" cy="377640"/>
            </a:xfrm>
            <a:custGeom>
              <a:avLst/>
              <a:gdLst/>
              <a:ahLst/>
              <a:rect l="l" t="t" r="r" b="b"/>
              <a:pathLst>
                <a:path w="1468582" h="310958">
                  <a:moveTo>
                    <a:pt x="0" y="310958"/>
                  </a:moveTo>
                  <a:cubicBezTo>
                    <a:pt x="205509" y="161637"/>
                    <a:pt x="411018" y="12316"/>
                    <a:pt x="655782" y="6158"/>
                  </a:cubicBezTo>
                  <a:cubicBezTo>
                    <a:pt x="900546" y="0"/>
                    <a:pt x="1468582" y="274012"/>
                    <a:pt x="1468582" y="274012"/>
                  </a:cubicBezTo>
                  <a:lnTo>
                    <a:pt x="1468582" y="274012"/>
                  </a:ln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3"/>
            <p:cNvSpPr/>
            <p:nvPr/>
          </p:nvSpPr>
          <p:spPr>
            <a:xfrm>
              <a:off x="2954160" y="4792680"/>
              <a:ext cx="1477800" cy="360"/>
            </a:xfrm>
            <a:custGeom>
              <a:avLst/>
              <a:gdLst/>
              <a:ahLst/>
              <a:rect l="l" t="t" r="r" b="b"/>
              <a:pathLst>
                <a:path w="1477819" h="0">
                  <a:moveTo>
                    <a:pt x="0" y="0"/>
                  </a:moveTo>
                  <a:lnTo>
                    <a:pt x="1477819" y="0"/>
                  </a:lnTo>
                  <a:lnTo>
                    <a:pt x="1477819" y="0"/>
                  </a:ln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6"/>
            <p:cNvSpPr/>
            <p:nvPr/>
          </p:nvSpPr>
          <p:spPr>
            <a:xfrm>
              <a:off x="2954160" y="4830840"/>
              <a:ext cx="1477800" cy="771480"/>
            </a:xfrm>
            <a:custGeom>
              <a:avLst/>
              <a:gdLst/>
              <a:ahLst/>
              <a:rect l="l" t="t" r="r" b="b"/>
              <a:pathLst>
                <a:path w="1477819" h="583430">
                  <a:moveTo>
                    <a:pt x="0" y="9236"/>
                  </a:moveTo>
                  <a:cubicBezTo>
                    <a:pt x="250921" y="296333"/>
                    <a:pt x="501843" y="583430"/>
                    <a:pt x="748146" y="581891"/>
                  </a:cubicBezTo>
                  <a:cubicBezTo>
                    <a:pt x="994449" y="580352"/>
                    <a:pt x="1236134" y="290176"/>
                    <a:pt x="1477819" y="0"/>
                  </a:cubicBezTo>
                </a:path>
              </a:pathLst>
            </a:custGeom>
            <a:noFill/>
            <a:ln cap="rnd"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17"/>
            <p:cNvSpPr/>
            <p:nvPr/>
          </p:nvSpPr>
          <p:spPr>
            <a:xfrm>
              <a:off x="5346720" y="4613400"/>
              <a:ext cx="1662120" cy="263520"/>
            </a:xfrm>
            <a:custGeom>
              <a:avLst/>
              <a:gdLst/>
              <a:ahLst/>
              <a:rect l="l" t="t" r="r" b="b"/>
              <a:pathLst>
                <a:path w="1661006" h="263237">
                  <a:moveTo>
                    <a:pt x="0" y="263237"/>
                  </a:moveTo>
                  <a:cubicBezTo>
                    <a:pt x="149321" y="136236"/>
                    <a:pt x="298642" y="9236"/>
                    <a:pt x="443345" y="4618"/>
                  </a:cubicBezTo>
                  <a:cubicBezTo>
                    <a:pt x="588048" y="0"/>
                    <a:pt x="868218" y="235528"/>
                    <a:pt x="868218" y="235528"/>
                  </a:cubicBezTo>
                  <a:lnTo>
                    <a:pt x="868218" y="235528"/>
                  </a:lnTo>
                  <a:lnTo>
                    <a:pt x="1551709" y="133928"/>
                  </a:lnTo>
                  <a:cubicBezTo>
                    <a:pt x="1661006" y="118534"/>
                    <a:pt x="1592503" y="130849"/>
                    <a:pt x="1524000" y="143164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олилиния 18"/>
            <p:cNvSpPr/>
            <p:nvPr/>
          </p:nvSpPr>
          <p:spPr>
            <a:xfrm>
              <a:off x="5329440" y="4734000"/>
              <a:ext cx="1612800" cy="808200"/>
            </a:xfrm>
            <a:custGeom>
              <a:avLst/>
              <a:gdLst/>
              <a:ahLst/>
              <a:rect l="l" t="t" r="r" b="b"/>
              <a:pathLst>
                <a:path w="1613284" h="808182">
                  <a:moveTo>
                    <a:pt x="0" y="161636"/>
                  </a:moveTo>
                  <a:lnTo>
                    <a:pt x="517236" y="808182"/>
                  </a:lnTo>
                  <a:lnTo>
                    <a:pt x="517236" y="808182"/>
                  </a:lnTo>
                  <a:cubicBezTo>
                    <a:pt x="594206" y="765079"/>
                    <a:pt x="858981" y="564958"/>
                    <a:pt x="979054" y="549564"/>
                  </a:cubicBezTo>
                  <a:cubicBezTo>
                    <a:pt x="1099127" y="534170"/>
                    <a:pt x="1140691" y="789709"/>
                    <a:pt x="1237673" y="715818"/>
                  </a:cubicBezTo>
                  <a:cubicBezTo>
                    <a:pt x="1334655" y="641927"/>
                    <a:pt x="1508606" y="212436"/>
                    <a:pt x="1560945" y="106218"/>
                  </a:cubicBezTo>
                  <a:cubicBezTo>
                    <a:pt x="1613284" y="0"/>
                    <a:pt x="1582496" y="39254"/>
                    <a:pt x="1551709" y="78509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9"/>
            <p:cNvSpPr/>
            <p:nvPr/>
          </p:nvSpPr>
          <p:spPr>
            <a:xfrm>
              <a:off x="5356440" y="4149720"/>
              <a:ext cx="1542960" cy="727200"/>
            </a:xfrm>
            <a:custGeom>
              <a:avLst/>
              <a:gdLst/>
              <a:ahLst/>
              <a:rect l="l" t="t" r="r" b="b"/>
              <a:pathLst>
                <a:path w="1542473" h="726594">
                  <a:moveTo>
                    <a:pt x="0" y="726594"/>
                  </a:moveTo>
                  <a:cubicBezTo>
                    <a:pt x="119303" y="468745"/>
                    <a:pt x="238607" y="210896"/>
                    <a:pt x="295564" y="107757"/>
                  </a:cubicBezTo>
                  <a:cubicBezTo>
                    <a:pt x="352521" y="4618"/>
                    <a:pt x="281709" y="90824"/>
                    <a:pt x="341745" y="107757"/>
                  </a:cubicBezTo>
                  <a:cubicBezTo>
                    <a:pt x="401781" y="124690"/>
                    <a:pt x="564958" y="224751"/>
                    <a:pt x="655782" y="209357"/>
                  </a:cubicBezTo>
                  <a:cubicBezTo>
                    <a:pt x="746606" y="193963"/>
                    <a:pt x="795867" y="30788"/>
                    <a:pt x="886691" y="15394"/>
                  </a:cubicBezTo>
                  <a:cubicBezTo>
                    <a:pt x="977515" y="0"/>
                    <a:pt x="1122218" y="53879"/>
                    <a:pt x="1200727" y="116994"/>
                  </a:cubicBezTo>
                  <a:cubicBezTo>
                    <a:pt x="1279236" y="180109"/>
                    <a:pt x="1300787" y="317115"/>
                    <a:pt x="1357745" y="394085"/>
                  </a:cubicBezTo>
                  <a:cubicBezTo>
                    <a:pt x="1414703" y="471055"/>
                    <a:pt x="1542473" y="578812"/>
                    <a:pt x="1542473" y="578812"/>
                  </a:cubicBezTo>
                  <a:lnTo>
                    <a:pt x="1542473" y="578812"/>
                  </a:lnTo>
                  <a:lnTo>
                    <a:pt x="1542473" y="578812"/>
                  </a:lnTo>
                </a:path>
              </a:pathLst>
            </a:custGeom>
            <a:noFill/>
            <a:ln cap="rnd"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20"/>
            <p:cNvSpPr/>
            <p:nvPr/>
          </p:nvSpPr>
          <p:spPr>
            <a:xfrm>
              <a:off x="5319720" y="4908600"/>
              <a:ext cx="1722600" cy="1122480"/>
            </a:xfrm>
            <a:custGeom>
              <a:avLst/>
              <a:gdLst/>
              <a:ahLst/>
              <a:rect l="l" t="t" r="r" b="b"/>
              <a:pathLst>
                <a:path w="1722582" h="1122218">
                  <a:moveTo>
                    <a:pt x="0" y="50800"/>
                  </a:moveTo>
                  <a:cubicBezTo>
                    <a:pt x="216285" y="577273"/>
                    <a:pt x="432570" y="1103746"/>
                    <a:pt x="701964" y="1112982"/>
                  </a:cubicBezTo>
                  <a:cubicBezTo>
                    <a:pt x="971358" y="1122218"/>
                    <a:pt x="1510146" y="212436"/>
                    <a:pt x="1616364" y="106218"/>
                  </a:cubicBezTo>
                  <a:cubicBezTo>
                    <a:pt x="1722582" y="0"/>
                    <a:pt x="1530927" y="237836"/>
                    <a:pt x="1339273" y="475673"/>
                  </a:cubicBezTo>
                </a:path>
              </a:pathLst>
            </a:custGeom>
            <a:noFill/>
            <a:ln cap="rnd"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68680" y="115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54936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из города М в город К, нужно проехать через гор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жду городами М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четыре автодороги, а из горо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род К можно попасть либо поездом, либо самолетом. Сколько существует различных способов добраться из города М в город К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257760" y="4221000"/>
            <a:ext cx="134820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8244000" y="2602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Monotype Corsiva"/>
              </a:rPr>
              <a:t>С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179280" y="494172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Д/З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§ 60, №№ 1051, 1055.</a:t>
            </a:r>
            <a:r>
              <a:rPr b="1" i="1" lang="ru-RU" sz="5400" spc="-1" strike="noStrike">
                <a:solidFill>
                  <a:srgbClr val="3333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правляющая кнопка: далее 9">
            <a:hlinkClick r:id="rId1" action="ppaction://hlinksldjump"/>
          </p:cNvPr>
          <p:cNvSpPr/>
          <p:nvPr/>
        </p:nvSpPr>
        <p:spPr>
          <a:xfrm>
            <a:off x="8388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5349600" y="429264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2"/>
          <p:cNvSpPr/>
          <p:nvPr/>
        </p:nvSpPr>
        <p:spPr>
          <a:xfrm>
            <a:off x="182520" y="1159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182520" y="2637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82520" y="42926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684360" y="1916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992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4795200" y="342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684360" y="580536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720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684360" y="11592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распределиться золотая и серебряная медали на чемпионате по футболу, если в нем принимают учас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32 команды;  2)  16 коман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84360" y="27082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жно составить расписание 5 уроков на один день из 5 различных предме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84360" y="4292640"/>
            <a:ext cx="77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могут занять очередь в школьный буф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6 учащихся;  2)  5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5421960" y="58770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3:12:57Z</dcterms:created>
  <dc:creator>alle-gol</dc:creator>
  <dc:description/>
  <dc:language>en-US</dc:language>
  <cp:lastModifiedBy>PC</cp:lastModifiedBy>
  <dcterms:modified xsi:type="dcterms:W3CDTF">2014-12-12T15:38:40Z</dcterms:modified>
  <cp:revision>453</cp:revision>
  <dc:subject/>
  <dc:title>комбинаторика</dc:title>
</cp:coreProperties>
</file>